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CDF0-6722-4C99-80F5-837E6F584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DD7C-1D2A-4456-8EED-32B3FE0DB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5CB-AC75-4179-8A59-D2C84020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CED-4CC1-4BAC-BCE8-B045C4B3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260-E28A-49D6-BC4B-EA1CD3A5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78E-5D13-40E9-A853-8C359978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EF5-EFD3-4F26-A72C-C2106DCA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839-C1CE-41E5-8648-EF365EA0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856-93F1-48BA-B97C-2CB9B826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28D-557F-4478-97BB-DCA9F5AE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6BC-2D15-4DC1-B6DA-36165441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9D6-B94D-41A7-A4D9-34585DFA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7F4-471A-41D3-BDD9-3F6FF033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493-CFD5-4FDD-BAE4-B8CDC5D9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6D83-5A7A-4FD0-AEC4-19ACBE8CE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801720"/>
            <a:ext cx="84582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YOU BUILD THE FOLLOWING MODE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e A and Plane B are parallel.  Plane C is perpendicular to Planes A and B.  Line DE intersects Plane A and Plane B but not Plane 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es A, B, C and D all intersect in Line E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e M and Plane N are perpendicular.  Line RS intersects each plane at exactly one 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e R and Plane S are parallel.  Plane Q intersects Plane R in Line AB and Plane Q intersects Plane S in Line CD.  Plane Q is not perpendicular to Planes R and 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2:20:16Z</dcterms:created>
  <dc:creator> </dc:creator>
  <dc:description/>
  <dc:language>en-US</dc:language>
  <cp:lastModifiedBy>Administratr</cp:lastModifiedBy>
  <dcterms:modified xsi:type="dcterms:W3CDTF">2010-08-06T00:31:38Z</dcterms:modified>
  <cp:revision>4</cp:revision>
  <dc:subject/>
  <dc:title>Slide 1</dc:title>
</cp:coreProperties>
</file>